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7DC-C8B9-4BDC-9915-2D63762B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538-BC39-4001-A172-BEE8C5B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BBE-1F61-4545-A0E0-5BF4CC76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4E2-4507-46A1-BF7D-EEC46CEC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EA1-2F07-4AD4-9BD4-901CA24C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874-54CF-44AC-B40D-A1681F5C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FFE-300B-4724-A9A4-B25F975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1D3-886D-495A-A962-9275FF12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2DE-2045-4E36-AB99-94F912F9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250-6BA9-4D8A-89D3-4A24F0A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12A-5051-46E6-96FD-9D3E518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765-D1DC-4049-A9BA-2A3BC928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A407-8E89-42C4-8425-F6000A9726A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 mice  are a healthy snack in no ti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carn 022.JPG"/>
          <p:cNvPicPr/>
          <p:nvPr/>
        </p:nvPicPr>
        <p:blipFill>
          <a:blip r:embed="rId1"/>
          <a:stretch/>
        </p:blipFill>
        <p:spPr>
          <a:xfrm>
            <a:off x="1403280" y="1700280"/>
            <a:ext cx="64818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2060280"/>
            <a:ext cx="31669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Ingredien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resh strawber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 chocolate c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m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othpi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d lace lico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carn 011.JPG"/>
          <p:cNvPicPr/>
          <p:nvPr/>
        </p:nvPicPr>
        <p:blipFill>
          <a:blip r:embed="rId1"/>
          <a:stretch/>
        </p:blipFill>
        <p:spPr>
          <a:xfrm>
            <a:off x="4000680" y="189000"/>
            <a:ext cx="5143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45" name="11 Conector recto de flecha"/>
          <p:cNvCxnSpPr/>
          <p:nvPr/>
        </p:nvCxnSpPr>
        <p:spPr>
          <a:xfrm flipV="1">
            <a:off x="2842920" y="2133360"/>
            <a:ext cx="2485080" cy="575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13 Conector recto de flecha"/>
          <p:cNvCxnSpPr/>
          <p:nvPr/>
        </p:nvCxnSpPr>
        <p:spPr>
          <a:xfrm>
            <a:off x="3203280" y="3573000"/>
            <a:ext cx="360108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15 Conector recto de flecha"/>
          <p:cNvCxnSpPr/>
          <p:nvPr/>
        </p:nvCxnSpPr>
        <p:spPr>
          <a:xfrm>
            <a:off x="2700000" y="4221000"/>
            <a:ext cx="3167640" cy="1872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640" y="62028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h the strawberr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carn 007.JPG"/>
          <p:cNvPicPr/>
          <p:nvPr/>
        </p:nvPicPr>
        <p:blipFill>
          <a:blip r:embed="rId1"/>
          <a:stretch/>
        </p:blipFill>
        <p:spPr>
          <a:xfrm>
            <a:off x="0" y="-27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4 Imagen" descr="carn 008.JPG"/>
          <p:cNvPicPr/>
          <p:nvPr/>
        </p:nvPicPr>
        <p:blipFill>
          <a:blip r:embed="rId2"/>
          <a:stretch/>
        </p:blipFill>
        <p:spPr>
          <a:xfrm>
            <a:off x="4381560" y="3313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carn 002.JPG"/>
          <p:cNvPicPr/>
          <p:nvPr/>
        </p:nvPicPr>
        <p:blipFill>
          <a:blip r:embed="rId1"/>
          <a:stretch/>
        </p:blipFill>
        <p:spPr>
          <a:xfrm>
            <a:off x="421164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4 Imagen" descr="carn 003.JPG"/>
          <p:cNvPicPr/>
          <p:nvPr/>
        </p:nvPicPr>
        <p:blipFill>
          <a:blip r:embed="rId2"/>
          <a:stretch/>
        </p:blipFill>
        <p:spPr>
          <a:xfrm>
            <a:off x="108000" y="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 a mini chocolate chip into the tip for a nose, and two for its ey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4 Imagen" descr="carn 005.JPG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6 Marcador de contenido" descr="carn 012.JPG"/>
          <p:cNvPicPr/>
          <p:nvPr/>
        </p:nvPicPr>
        <p:blipFill>
          <a:blip r:embed="rId2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3200" y="12679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ck 2 almonds into the top of the strawberry for ears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carn 009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4 Imagen" descr="carn 015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4 Imagen" descr="carn 014.JPG"/>
          <p:cNvPicPr/>
          <p:nvPr/>
        </p:nvPicPr>
        <p:blipFill>
          <a:blip r:embed="rId1"/>
          <a:stretch/>
        </p:blipFill>
        <p:spPr>
          <a:xfrm>
            <a:off x="0" y="1484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 tail, use a toothpick to carve a small hole in the back of the berry and push the end of a piece of licorice lace into the hole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carn 013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 Marcador de contenido" descr="carn 019.JPG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6 Marcador de contenido" descr="carn 016.JPG"/>
          <p:cNvPicPr/>
          <p:nvPr/>
        </p:nvPicPr>
        <p:blipFill>
          <a:blip r:embed="rId2"/>
          <a:stretch/>
        </p:blipFill>
        <p:spPr>
          <a:xfrm>
            <a:off x="183528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carn 018.JPG"/>
          <p:cNvPicPr/>
          <p:nvPr/>
        </p:nvPicPr>
        <p:blipFill>
          <a:blip r:embed="rId3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4 Imagen" descr="carn 020.JPG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5 Imagen" descr="carn 021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8" name="6 Rectángulo"/>
          <p:cNvSpPr/>
          <p:nvPr/>
        </p:nvSpPr>
        <p:spPr>
          <a:xfrm>
            <a:off x="539640" y="1197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careful with cats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8 CuadroTexto"/>
          <p:cNvSpPr/>
          <p:nvPr/>
        </p:nvSpPr>
        <p:spPr>
          <a:xfrm>
            <a:off x="5435640" y="4797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EIP San Juan Bautista. Mad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1:10:47Z</dcterms:created>
  <dc:creator>.</dc:creator>
  <dc:description/>
  <dc:language>en-US</dc:language>
  <cp:lastModifiedBy>.</cp:lastModifiedBy>
  <dcterms:modified xsi:type="dcterms:W3CDTF">2012-02-20T21:41:06Z</dcterms:modified>
  <cp:revision>6</cp:revision>
  <dc:subject/>
  <dc:title>Diapositiva 1</dc:title>
</cp:coreProperties>
</file>